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371-513A-4F51-9042-E281D30C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248-1B0D-484A-8B0B-20F69670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93E-5EC6-4B40-A0ED-E5D4AF8B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71C-EA52-4D7C-8ABD-EB4B5245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90D-CD50-43E5-B456-F525E4EE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75D-80E5-476A-8023-5C7EEB51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B25-185C-41C1-9701-5C7CC25E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023A-EC97-4A05-A71F-87D87115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A8F-E61A-402B-9B90-DCC2417B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FF6-B100-4054-939B-188ABB73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550-0D46-4F9A-8EE2-29A25669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B6A-649E-48BE-90BA-7EBB998F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7c80"/>
            </a:gs>
            <a:gs pos="100000">
              <a:srgbClr val="76767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D52B-4A29-4CA5-9D9C-3020CA160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7c80"/>
            </a:gs>
            <a:gs pos="100000">
              <a:srgbClr val="76767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7c80"/>
            </a:gs>
            <a:gs pos="100000">
              <a:srgbClr val="76767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16000" y="4941720"/>
            <a:ext cx="115236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116000" y="4437000"/>
            <a:ext cx="2808360" cy="504720"/>
          </a:xfrm>
          <a:prstGeom prst="line">
            <a:avLst/>
          </a:prstGeom>
          <a:ln w="12600">
            <a:solidFill>
              <a:srgbClr val="00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268360" y="4437000"/>
            <a:ext cx="165600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45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45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5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4941720"/>
            <a:ext cx="20876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3640" y="479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619280" y="4437000"/>
            <a:ext cx="2232000" cy="792360"/>
          </a:xfrm>
          <a:prstGeom prst="line">
            <a:avLst/>
          </a:prstGeom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45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530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411280" y="2349000"/>
            <a:ext cx="0" cy="259236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692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остроение правильной треугольной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292428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Соединим точк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, В С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вершиной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093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116000" y="2349360"/>
            <a:ext cx="1295280" cy="2592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68000" y="2349360"/>
            <a:ext cx="142920" cy="324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2349360"/>
            <a:ext cx="1513080" cy="2159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58770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троение закончен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47628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360" y="836640"/>
            <a:ext cx="87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Построение правильной четырехугольной пирам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2492280"/>
            <a:ext cx="3311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ение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им произвольный параллелограмм  и обозначим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С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11280" y="4724280"/>
            <a:ext cx="1008000" cy="1152720"/>
          </a:xfrm>
          <a:prstGeom prst="line">
            <a:avLst/>
          </a:prstGeom>
          <a:ln w="2232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5877000"/>
            <a:ext cx="2160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771640" y="4724280"/>
            <a:ext cx="1008360" cy="115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19280" y="4724280"/>
            <a:ext cx="2160720" cy="0"/>
          </a:xfrm>
          <a:prstGeom prst="line">
            <a:avLst/>
          </a:prstGeom>
          <a:ln w="2232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9500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43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436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71640" y="5734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645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2720" y="189000"/>
            <a:ext cx="78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правильной четырехугольной пирам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38200" y="4292640"/>
            <a:ext cx="1008000" cy="1152360"/>
          </a:xfrm>
          <a:prstGeom prst="line">
            <a:avLst/>
          </a:prstGeom>
          <a:ln w="2232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445000"/>
            <a:ext cx="2160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698920" y="4292280"/>
            <a:ext cx="1008000" cy="1152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6200" y="4292640"/>
            <a:ext cx="2160720" cy="0"/>
          </a:xfrm>
          <a:prstGeom prst="line">
            <a:avLst/>
          </a:prstGeom>
          <a:ln w="2232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5518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692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98920" y="53020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4200" y="6021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96000" y="1700280"/>
            <a:ext cx="424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2 : Из 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м диагона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а точку пересечения  обозначи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39640" y="4292280"/>
            <a:ext cx="3168720" cy="1152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1547640" y="4292280"/>
            <a:ext cx="1152720" cy="1152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8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V="1">
            <a:off x="2124000" y="2781000"/>
            <a:ext cx="0" cy="2087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38200" y="4292640"/>
            <a:ext cx="1008000" cy="1152360"/>
          </a:xfrm>
          <a:prstGeom prst="line">
            <a:avLst/>
          </a:prstGeom>
          <a:ln w="2232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45000"/>
            <a:ext cx="2160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698920" y="4292280"/>
            <a:ext cx="1008000" cy="1152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6200" y="4292640"/>
            <a:ext cx="2160720" cy="0"/>
          </a:xfrm>
          <a:prstGeom prst="line">
            <a:avLst/>
          </a:prstGeom>
          <a:ln w="2232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5518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692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98920" y="53020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200" y="6021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39640" y="4292280"/>
            <a:ext cx="3168720" cy="1152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547640" y="4292280"/>
            <a:ext cx="1152720" cy="1152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7964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2720" y="189000"/>
            <a:ext cx="78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правильной четырехугольной пирам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79640" y="234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1773360"/>
            <a:ext cx="3024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Из точк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проведем высоту и обозначим его точкой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2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flipV="1">
            <a:off x="2124000" y="2781000"/>
            <a:ext cx="0" cy="2087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38200" y="4292640"/>
            <a:ext cx="1008000" cy="1152360"/>
          </a:xfrm>
          <a:prstGeom prst="line">
            <a:avLst/>
          </a:prstGeom>
          <a:ln w="2232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5445000"/>
            <a:ext cx="2160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698920" y="4292280"/>
            <a:ext cx="1008000" cy="1152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6200" y="4292640"/>
            <a:ext cx="2160720" cy="0"/>
          </a:xfrm>
          <a:prstGeom prst="line">
            <a:avLst/>
          </a:prstGeom>
          <a:ln w="2232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518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0692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8920" y="53020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4200" y="6021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39640" y="4292280"/>
            <a:ext cx="3168720" cy="1152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1547640" y="4292280"/>
            <a:ext cx="1152720" cy="1152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964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234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2720" y="189000"/>
            <a:ext cx="78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правильной четырехугольной пирам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03640" y="1773360"/>
            <a:ext cx="40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Строим боковые реб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соединим точк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с точка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, В, С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4000" y="2852640"/>
            <a:ext cx="576360" cy="2592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39640" y="2781000"/>
            <a:ext cx="1584360" cy="2663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123640" y="2781360"/>
            <a:ext cx="1584360" cy="1511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547640" y="2781360"/>
            <a:ext cx="576360" cy="1511280"/>
          </a:xfrm>
          <a:prstGeom prst="line">
            <a:avLst/>
          </a:prstGeom>
          <a:ln w="936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18520" y="602136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роение закончено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44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4800" y="54936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. Построение правильно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шестиугольной пирам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8000" y="242100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роение 1: Центр основания правильной шестиугольной пирамиды строится на проекционном чертеже как точка пересечения диагоналей шести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87280" y="6093000"/>
            <a:ext cx="1656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43280" y="5373720"/>
            <a:ext cx="865080" cy="719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39280" y="5445000"/>
            <a:ext cx="647640" cy="648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39640" y="4653000"/>
            <a:ext cx="863640" cy="792000"/>
          </a:xfrm>
          <a:prstGeom prst="line">
            <a:avLst/>
          </a:prstGeom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203640" y="4653000"/>
            <a:ext cx="504720" cy="72072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4653000"/>
            <a:ext cx="1800360" cy="0"/>
          </a:xfrm>
          <a:prstGeom prst="line">
            <a:avLst/>
          </a:prstGeom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602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609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08360" y="501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436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59280" y="414972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9640" y="5373720"/>
            <a:ext cx="3168720" cy="71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187280" y="4653000"/>
            <a:ext cx="2016360" cy="1440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4653000"/>
            <a:ext cx="1511280" cy="1440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79640" y="501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 flipH="1">
            <a:off x="1187280" y="6093000"/>
            <a:ext cx="1656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843280" y="5373720"/>
            <a:ext cx="865080" cy="719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39280" y="5445000"/>
            <a:ext cx="647640" cy="648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9640" y="4653000"/>
            <a:ext cx="863640" cy="792000"/>
          </a:xfrm>
          <a:prstGeom prst="line">
            <a:avLst/>
          </a:prstGeom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203640" y="4653000"/>
            <a:ext cx="504720" cy="72072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03280" y="4653000"/>
            <a:ext cx="1800360" cy="0"/>
          </a:xfrm>
          <a:prstGeom prst="line">
            <a:avLst/>
          </a:prstGeom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602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609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501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436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429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39640" y="5373720"/>
            <a:ext cx="3168720" cy="71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187280" y="4653000"/>
            <a:ext cx="2016360" cy="1440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4653000"/>
            <a:ext cx="1511280" cy="1440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501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92720" y="1773360"/>
            <a:ext cx="302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Из центра вертикально проводится высота, на ней на ней отмечается вершина пирамиды , точк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124000" y="2637000"/>
            <a:ext cx="71640" cy="273672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7964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6453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1440" y="331920"/>
            <a:ext cx="74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Построение правильной шестиугольной пирам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41440" y="331920"/>
            <a:ext cx="74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Построение правильной шестиугольной пирам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331640" y="5805360"/>
            <a:ext cx="165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987640" y="5086080"/>
            <a:ext cx="865080" cy="718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684000" y="5157360"/>
            <a:ext cx="647640" cy="64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84360" y="4365720"/>
            <a:ext cx="863280" cy="792000"/>
          </a:xfrm>
          <a:prstGeom prst="line">
            <a:avLst/>
          </a:prstGeom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3348000" y="4365720"/>
            <a:ext cx="504720" cy="72072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47640" y="4365720"/>
            <a:ext cx="1800360" cy="0"/>
          </a:xfrm>
          <a:prstGeom prst="line">
            <a:avLst/>
          </a:prstGeom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00000" y="5734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16360" y="58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4726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60360" y="4078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40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84360" y="5086440"/>
            <a:ext cx="3168360" cy="71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332000" y="4365360"/>
            <a:ext cx="2016000" cy="1439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6360" y="4365720"/>
            <a:ext cx="1511280" cy="1439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24000" y="4726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68360" y="2349000"/>
            <a:ext cx="71640" cy="273708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24000" y="198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00000" y="6237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1413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роение 3:Вершину пирамиды соединяем с вершинами шестиугольника (строятся боковые реб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84000" y="2349360"/>
            <a:ext cx="1655640" cy="2808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332000" y="2349360"/>
            <a:ext cx="1008000" cy="345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2339640" y="2349360"/>
            <a:ext cx="647640" cy="345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2349360"/>
            <a:ext cx="1511280" cy="2735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547640" y="2349000"/>
            <a:ext cx="792360" cy="2016360"/>
          </a:xfrm>
          <a:prstGeom prst="line">
            <a:avLst/>
          </a:prstGeom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340000" y="2421000"/>
            <a:ext cx="1008000" cy="1944720"/>
          </a:xfrm>
          <a:prstGeom prst="line">
            <a:avLst/>
          </a:prstGeom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56000" y="58770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троение закончен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0000"/>
            </a:gs>
            <a:gs pos="100000">
              <a:srgbClr val="76767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79280" y="2276640"/>
            <a:ext cx="87854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Алексеев. Л. Н. Белоновская. Дидакт. Материалы по математике для 10 кл. вечерней (сменной) общ. Школы: Пособие для учителя/ А.С.Алексеев. Л. Н. Белоновская , - 2-е изд., перераб.- М. «Просвещение»1988 г.-144с.: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Погорелов: учеб. Геометрия 10-11 кл. общеобразоват. Учереждений/ А.В.Погорелов.- 6-е изд., дораб. М. : «Просвещение» 2006 г. -175 с. :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циклопедический словарь юного математика/ Сост. Э 68 А.П. Савин. - М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ика, 1985.-325с.,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692280"/>
            <a:ext cx="849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ТЕРАТУР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0000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4076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000" y="1628640"/>
            <a:ext cx="8172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ЬНЫЕ ПИРАМИДЫ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260280"/>
            <a:ext cx="540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Я ПРОЕКТА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3024360" cy="256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952720" cy="256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940360" y="4265640"/>
            <a:ext cx="320364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16000" y="6093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301840" cy="2924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24000" y="333360"/>
            <a:ext cx="8424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ЬНЫЕ ПИРАМИДЫ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132000" y="3141720"/>
            <a:ext cx="4969080" cy="37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БОТ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АЩЕГОСЯ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7 ГРУППЫ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МОЩУКА ИЛЬИ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7c80"/>
            </a:gs>
            <a:gs pos="100000">
              <a:srgbClr val="76767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0" spc="-1" strike="noStrike">
                <a:solidFill>
                  <a:srgbClr val="0066ff"/>
                </a:solidFill>
                <a:latin typeface="Georgia"/>
              </a:rPr>
              <a:t>?</a:t>
            </a:r>
            <a:endParaRPr b="0" lang="en-US" sz="7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7c80"/>
            </a:gs>
            <a:gs pos="100000">
              <a:srgbClr val="76767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>
                  <a:alpha val="50196"/>
                </a:srgbClr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К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ПОСТРО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ПРАВИЛЬНУ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ПИРАМИД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.Построение правильной треугольной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. Построение правильной четырехугольной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. Построение правильной шестиугольной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4 Список использованной литерат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54936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7c80"/>
            </a:gs>
            <a:gs pos="100000">
              <a:srgbClr val="76767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83664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entury Gothic"/>
              </a:rPr>
              <a:t>Построение правильной треугольной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4941720"/>
            <a:ext cx="115236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116000" y="4437000"/>
            <a:ext cx="2808360" cy="504720"/>
          </a:xfrm>
          <a:prstGeom prst="line">
            <a:avLst/>
          </a:prstGeom>
          <a:ln w="12600">
            <a:solidFill>
              <a:srgbClr val="00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68360" y="4437000"/>
            <a:ext cx="165600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45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45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5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400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6381720"/>
            <a:ext cx="115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141720"/>
            <a:ext cx="324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роение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Построим произвольный треугольник и обозначим ег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7c80"/>
            </a:gs>
            <a:gs pos="100000">
              <a:srgbClr val="76767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47628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ение правильной треугольной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4941720"/>
            <a:ext cx="115236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116000" y="4437000"/>
            <a:ext cx="2808360" cy="504720"/>
          </a:xfrm>
          <a:prstGeom prst="line">
            <a:avLst/>
          </a:prstGeom>
          <a:ln w="12600">
            <a:solidFill>
              <a:srgbClr val="00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68360" y="4437000"/>
            <a:ext cx="165600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45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45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5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4941720"/>
            <a:ext cx="20876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3640" y="479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1700280"/>
            <a:ext cx="360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роение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Проведем медиан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К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М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И обозначим пересечение  точко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619280" y="4437000"/>
            <a:ext cx="2232000" cy="792360"/>
          </a:xfrm>
          <a:prstGeom prst="line">
            <a:avLst/>
          </a:prstGeom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4724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530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6308640"/>
            <a:ext cx="107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7c80"/>
            </a:gs>
            <a:gs pos="100000">
              <a:srgbClr val="76767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16000" y="4941720"/>
            <a:ext cx="115236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116000" y="4437000"/>
            <a:ext cx="2808360" cy="504720"/>
          </a:xfrm>
          <a:prstGeom prst="line">
            <a:avLst/>
          </a:prstGeom>
          <a:ln w="12600">
            <a:solidFill>
              <a:srgbClr val="00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268360" y="4437000"/>
            <a:ext cx="165600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45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45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4941720"/>
            <a:ext cx="20876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479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19280" y="4437000"/>
            <a:ext cx="2232000" cy="792360"/>
          </a:xfrm>
          <a:prstGeom prst="line">
            <a:avLst/>
          </a:prstGeom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45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530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69228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остроение правильной треугольной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2924280"/>
            <a:ext cx="302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Из  точк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проведем перпендикуляр и отметим вершину пирамиды точкой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6165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 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411280" y="2349000"/>
            <a:ext cx="0" cy="259236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564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8:19:51Z</dcterms:created>
  <dc:creator>Timosh@</dc:creator>
  <dc:description/>
  <dc:language>en-US</dc:language>
  <cp:lastModifiedBy>KAB9</cp:lastModifiedBy>
  <dcterms:modified xsi:type="dcterms:W3CDTF">2008-10-28T07:30:19Z</dcterms:modified>
  <cp:revision>19</cp:revision>
  <dc:subject/>
  <dc:title>Презентация проекта:</dc:title>
</cp:coreProperties>
</file>